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F4A-8F94-42B3-8F1A-348B10F8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86D-26C6-4F4A-A553-19B157DB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DA3-CA96-4457-A8A1-CD31D852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836-5DB3-41B8-855F-974922B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5AB-AC36-4C6E-8D43-3809CC42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ED2-F56E-4F27-9DD9-986EA19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5DD-C752-46A7-9094-FC8E8F94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AD7-D51B-41C9-8299-A2DA5E63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FF5-5DE4-42BE-99A5-48943CAD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24C-4845-4092-BFFB-362DC3E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1AC-3D64-424F-AADE-BF00270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915-1FB5-448D-B469-8FEFB14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6F71-324D-4A67-A964-D59DD63746E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1547640" y="2349360"/>
            <a:ext cx="6050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Investigação Geológica e Geotécn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79280" y="5264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aspagem 01"/>
          <p:cNvPicPr/>
          <p:nvPr/>
        </p:nvPicPr>
        <p:blipFill>
          <a:blip r:embed="rId3"/>
          <a:stretch/>
        </p:blipFill>
        <p:spPr>
          <a:xfrm>
            <a:off x="533520" y="2781360"/>
            <a:ext cx="360684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12" descr="Jazida"/>
          <p:cNvPicPr/>
          <p:nvPr/>
        </p:nvPicPr>
        <p:blipFill>
          <a:blip r:embed="rId4"/>
          <a:stretch/>
        </p:blipFill>
        <p:spPr>
          <a:xfrm>
            <a:off x="5033880" y="2781360"/>
            <a:ext cx="3570480" cy="37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8000" y="1484280"/>
            <a:ext cx="892800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IMAGE0143"/>
          <p:cNvPicPr/>
          <p:nvPr/>
        </p:nvPicPr>
        <p:blipFill>
          <a:blip r:embed="rId3"/>
          <a:stretch/>
        </p:blipFill>
        <p:spPr>
          <a:xfrm>
            <a:off x="250920" y="3141720"/>
            <a:ext cx="4101840" cy="307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2" descr="Gela 049"/>
          <p:cNvPicPr/>
          <p:nvPr/>
        </p:nvPicPr>
        <p:blipFill>
          <a:blip r:embed="rId4"/>
          <a:stretch/>
        </p:blipFill>
        <p:spPr>
          <a:xfrm>
            <a:off x="4788000" y="3141720"/>
            <a:ext cx="4103640" cy="30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Rectangle 13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08000" y="1484280"/>
            <a:ext cx="892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ostra deformada: amostra de solo retirada com a destruição ou modificação apreciável de suas características “in situ”; também chamada de amostra amolgada quando ocorre a fragmentação do material amo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Secagem"/>
          <p:cNvPicPr/>
          <p:nvPr/>
        </p:nvPicPr>
        <p:blipFill>
          <a:blip r:embed="rId3"/>
          <a:stretch/>
        </p:blipFill>
        <p:spPr>
          <a:xfrm>
            <a:off x="539640" y="2852640"/>
            <a:ext cx="3657600" cy="36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1" name="Picture 11" descr="IMAGE0038"/>
          <p:cNvPicPr/>
          <p:nvPr/>
        </p:nvPicPr>
        <p:blipFill>
          <a:blip r:embed="rId4"/>
          <a:stretch/>
        </p:blipFill>
        <p:spPr>
          <a:xfrm>
            <a:off x="4788000" y="3213000"/>
            <a:ext cx="396216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2050920" y="2755800"/>
            <a:ext cx="4861080" cy="391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Rectangle 10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4786200" y="2852640"/>
            <a:ext cx="3889440" cy="3803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3363840" cy="379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Coleta de Amo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8000" y="1484280"/>
            <a:ext cx="89280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ostra indeformada: amostra de solo retirada sem ou com pequena modificação de suas características “in situ” com o uso de equipamentos e técnicas apropriad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Amostra indeformada"/>
          <p:cNvPicPr/>
          <p:nvPr/>
        </p:nvPicPr>
        <p:blipFill>
          <a:blip r:embed="rId3"/>
          <a:stretch/>
        </p:blipFill>
        <p:spPr>
          <a:xfrm>
            <a:off x="250920" y="2971800"/>
            <a:ext cx="3960720" cy="304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11" descr="amostra indeformada 02"/>
          <p:cNvPicPr/>
          <p:nvPr/>
        </p:nvPicPr>
        <p:blipFill>
          <a:blip r:embed="rId4"/>
          <a:stretch/>
        </p:blipFill>
        <p:spPr>
          <a:xfrm>
            <a:off x="4597560" y="2637000"/>
            <a:ext cx="429552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Rectangle 12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de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08000" y="1700280"/>
            <a:ext cx="8928000" cy="41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nidade geológica: é um corpo geológico espacialmente delimitado, com características específicas e comportamento similar face à determinad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rpo geológico: Camada, zona ou trecho capaz de ser delimitado em superfície e/ou em subsuperfície, com características e propriedades singula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ortamento similar: Comportamento semelhante face à mesm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licitação: Ação sobre o ambiente geológico imposta, induzida ou resultante da interação com a ocupação antróp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Unidades Ge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08000" y="1797120"/>
            <a:ext cx="892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oda unidade geológica está associada a um processo geológico específico, de tal sorte que o conhecimento dos processos que atuaram num local determinado é essencial para o conhecimento das unidades pres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a unidade geológica pode ser constituída por um conjunto de camadas ou por camadas individualizadas, em conformidade com a solicita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emplo: No caso de uma rodovia, uma camada de argila orgânica de um corpo aluvionar será considerada como uma unidade geológica, devido à possibilidade de induzir recalques do pavimento. Por outro lado, para fins de escavação, um conjunto de várias camadas de um aluvião, pode ser considerado como uma única unidade geológic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A investigação ge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1268280"/>
            <a:ext cx="8928000" cy="52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izar as solicit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r as unidades geológicas presentes em função dos dados existentes, de reconhecimento geológico e outros méto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r os métodos de investigação aplicáveis em função das solicitações, unidades geológicas, fase dos estudos, logística, resolução, prazo, custo e outras variáveis e distribuir as investigações na área através de critérios geométrico e geoló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especificações executivas, procedimentos de fiscalização, critérios de medição e pagamento, contrato e li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os resultados e ajustar o plano de invest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r os resultados e elaborar os modelos geológico e geomecâ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r seções geológicas e outras formas de apresentação de dados conforme requer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ompanhar a escolha da solução e o desenvolviment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rincipais limit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8000" y="1797120"/>
            <a:ext cx="892800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solução: capacidade do método de fornecer a informação desejada; a resolução de cada método pode variar conforme a solicitação ou amb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azo: o prazo disponível para as investigações pode limitar ou até impedir a  aplicação de determinados métodos em função do tempo de execu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: o custo das investigações varia entre um e três por cento do custo do empreendimento ou obra, exceto em casos especiai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usto x benefício: há um relação ótima entre o volume de investigação, que se reflete no custo das investigações e as informações obtidas, ou seja, o benefício alcanç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Métodos Geofí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08000" y="1341360"/>
            <a:ext cx="892800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sís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os mais empregados por refletirem as propriedades mecânicas das rochas e facilitam a interpretação e correlação com dados de sondagens di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smica de refração (mais empregado); Sísmica de reflexão; Crosshole e tomografia sís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étodos geo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troresistividade (sondagem elétrica vertical e caminhamento elétrico); Potencial espontâneo; Condutividade (VLF); Radar de penetração (G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os métodos geofí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física subaquática (sonografia, ecobatimentria, magnetometria e gravime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08000" y="1003320"/>
            <a:ext cx="8928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ços: escavação manual, com enxadão, pá e sarilho, com seções de 1,0m2 de lado, atravessando as camadas de so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 limitada pela presença de água, material instável e rocha; para prosseguir a escavação nessas condições são necessários procedimentos especi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ualização de grande extensão do material e a retirada de grandes volumes de amostra e de amostras indeform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ápido até 10m. Profundidade máxima em condições ideais: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ncheiras são escavações em forma de valeta; podem ser feitas mecanic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idados: instabilização das paredes; quedas de pessoas e animais (necessário cerca e cober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Poços (PI) e trincheiras (TR) de inspe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Gela 020"/>
          <p:cNvPicPr/>
          <p:nvPr/>
        </p:nvPicPr>
        <p:blipFill>
          <a:blip r:embed="rId2"/>
          <a:stretch/>
        </p:blipFill>
        <p:spPr>
          <a:xfrm>
            <a:off x="10944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10" descr="Gela 024"/>
          <p:cNvPicPr/>
          <p:nvPr/>
        </p:nvPicPr>
        <p:blipFill>
          <a:blip r:embed="rId3"/>
          <a:stretch/>
        </p:blipFill>
        <p:spPr>
          <a:xfrm>
            <a:off x="4643280" y="2421000"/>
            <a:ext cx="431820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Rectangle 11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7"/>
          <p:cNvSpPr/>
          <p:nvPr/>
        </p:nvSpPr>
        <p:spPr>
          <a:xfrm>
            <a:off x="108000" y="7491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Sondagem a 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8000" y="1797120"/>
            <a:ext cx="89280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cavados manualmente com o auxílio de uma broca chamada trado, acoplada a hastes de aço de ¾ de polegadas e a um tê para imprimir o movimento giratóri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omente atravessa a camada de solo, sendo interrompidos pela ocorrência de quaisquer materiais mais duros (rocha alterada mole, linha de seixos, etc) e pela presença de água subterrâne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ermite a obtenção de grande volume de amostras deformad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étodo rápido e portátil; profundidade máxima em condições ideais: 25 a 30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549360"/>
            <a:ext cx="6840720" cy="71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08000" y="4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entury Gothic"/>
              </a:rPr>
              <a:t>Investigação Geológica e Geoté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4:03:03Z</dcterms:created>
  <dc:creator>José Rojas</dc:creator>
  <dc:description/>
  <dc:language>en-US</dc:language>
  <cp:lastModifiedBy>José Rojas</cp:lastModifiedBy>
  <dcterms:modified xsi:type="dcterms:W3CDTF">2014-05-09T11:53:50Z</dcterms:modified>
  <cp:revision>87</cp:revision>
  <dc:subject/>
  <dc:title>Slide 1</dc:title>
</cp:coreProperties>
</file>